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8A1-7F69-473B-8F65-59B3A995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5EC-2E43-414E-896B-4D24D002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BA1-4453-40B8-9A22-443CA439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C138-9164-4B53-88C8-2CB8D221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FF7-F3F6-4746-9FB3-30BB0AC8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255F-B53A-4A9B-9423-1591A5A9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A3F-39FF-4FC9-AEDD-7274190D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DD2-B2AB-43C2-B2E3-529D9EE8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39B-3FA0-43B0-9A88-67A08D8C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59C-F981-4C2B-989B-A2F57A0E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A08-4D69-41B7-8803-65F10AAA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AD5A-ABE9-4F5E-A5C8-DE4C6EAE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5E0F-2D3A-466E-A65A-27784BFCB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Age of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(done over break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herf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urbing to m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thing uncertain and un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senberg “principle of uncertaint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vival of Christia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ianity on the at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stress human nature’s 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 is moral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weitze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uest for Historical Je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erkegaard-reject fundament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rth-humans are imperfect cr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hol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cel and Ma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hope and huma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rs focus on irrational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eam of consciousnes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ol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acob’s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ulk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mes Joyc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ly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-utopia, reject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ngler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cline of the W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S Eli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f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uis H. Sulli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k Lloyd W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11 Walter Gropius and the Bauha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vies and Ra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lture of the elite, these for the m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90s France: peep shows and arc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leads movie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kford, Sennett, Keystone K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0s Germany “bizarre expressionis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30s “talkies” allow Europe to catch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coni 19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0 Major events broad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 sets up 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30s 3/4 all househo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aganda and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racted to emotional int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turn their backs on typical music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vinsky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ite of Spr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bism-sh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daism-attacked all accepted behaviors of con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rrealism-wild dreams and complex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asso, Er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li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sailles creates a shaky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many hates Versai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e fearful and iso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 undepen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turns its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de disrupted, debts h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cus Questions for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In what ways did new and disturbing ideas in philosophy, physics, psychology, and literature reflect the general crisis in Western thoug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How did modernism revolutionize architecture, painting, and musi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How did the emerging consumer society and mass culture of the interwar years change the everyday lives of ordinary men and wom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B and France don’t ag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e wants harshness of treaty enfor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 wants trade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conomic Consequences of the Pea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e looking for Al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21 pact with Poland, associated with Little Entente against Hung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ddle East a source of tensions al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r Deb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ril 1921 price set at 132 billion gold 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5 billion per year or occu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1 payment made but not 19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nuary 1923 Poincare orders occupation of Ru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mans go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e seals entire Rhine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r Deb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ey printed and social revolution takes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ddle-class Germans are the ones hurt (Harv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gust 1923 Gustav Stresemann takes over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ope in Foreign Affai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wes Plan 1924: US to Germany to GB/France; back to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x payment $625 million, minimum $250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25 “Spirit of Locarn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26 Germany joins Lea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28 Kellogg-Briand 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29 Young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ope in Poli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23 Communist and National Socialist Coups Attempts thwa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erate businessmen realize parliamentary government can lead to prospe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ut still a split with nationalists, monarchists, commu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y Germany does not go the way of Russ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osa Luxemburg and Karl Liebknecht radical socialist arrested and shot before their revolution can occ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erman Socialist Democrats end the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cial Democrats offering democracy and social liberties gradual elimination of capit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3 Counter-Revolutionary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) Hertling and von Ba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re taker government, make some reforms constitutional monarchy uses SPD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) Ebert-Groener 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bert under siege, calls Groener replaced Ludendorff in army, Asks for help, don’t break up army and I will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use Frieko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) Stinnes-Legien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result: Weimar Re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ope in Poli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munists vs socialists for wo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alition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flation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2% unemployment in ‘2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abour Party comes to power led by Ramsey MacDona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22 Full autonomy for Catholic Irel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reat De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ways happen, but none worse then ‘29-’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 o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 investment (farms) vs. spe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e confidence, 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all lo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31 Largest Bank in Austria cl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ld Production dr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wn 3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 goes off gold standard, create higher tarif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pid slide a result o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conomic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cus Questions for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How did the democratic leaders of the 1920s deal with deep-seated instability and try to establish real peace and prosper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What caused the Great Depression, and how did the Western democracies respond to the challen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ss Un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 bad, but US w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e spirit, dignity, postpone marri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andinavian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Democrats the largest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co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cit sp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welf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ps, and democracy thr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overy and Reform in GB and F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 1932 Conservative led coal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not 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itical turm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cists, Communists, Socialists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ular Front and Leon Blum May 19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ne by June 19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st World War I 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 1914: Progress, reason, optimism, social rights increas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80s: reject optimism, reject faith in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udience until WW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ery: “Doubt and disorder are in us and with u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llectual Crisis of 20th cen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ilosophy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etzs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 since Athens there has been too much emphasis on ra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ifled passion and instin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, democracy, progress all suffocating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ly hope is to accept meaningless ex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rgson-immediate experience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rel-elite should control m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gical Empiric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jects cornerstone of traditional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osophy is study of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istenti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ists, true voice of Age of Anx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rtre-humans just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n Heidegger and Karl Jasp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illusioned students follow their ide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bert Ca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gmund Fre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iously one con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man behavior is ir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ibited sex key to mental heal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w Phy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1800s Physics one sign of h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based on fact an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changing natural laws determine the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ies-radium omits subatomic 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k-qu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ngs into question distinction between matter and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17:13:22Z</dcterms:created>
  <dc:creator>ahs</dc:creator>
  <dc:description/>
  <dc:language>en-US</dc:language>
  <cp:lastModifiedBy>admin</cp:lastModifiedBy>
  <dcterms:modified xsi:type="dcterms:W3CDTF">2013-04-12T12:42:27Z</dcterms:modified>
  <cp:revision>43</cp:revision>
  <dc:subject/>
  <dc:title>The Age of Anxiety</dc:title>
</cp:coreProperties>
</file>